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854-8289-4D56-9E82-E03286C6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9809-B952-4CDB-9257-DD6A2E73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C6CD-4940-4E1E-B79F-80D307C4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9680-3E38-4C74-8679-8890580B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499-3D17-4F7E-83A3-36F7B50D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2400-A947-47C7-8DE4-522C6659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CE9-64CA-4812-91AB-46030258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059F-B57D-4343-80B3-41040E55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1D7-5EA2-4C79-92FB-45600072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E28-4B58-48B9-A8D3-CAF3ADB0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052C-032A-4A07-844C-A3F08DC9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059-1C9D-4F92-BCF9-303777E8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A67F-1953-479D-82B0-33C5EA725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880" y="151920"/>
            <a:ext cx="8229600" cy="6553800"/>
            <a:chOff x="380880" y="151920"/>
            <a:chExt cx="8229600" cy="6553800"/>
          </a:xfrm>
        </p:grpSpPr>
        <p:sp>
          <p:nvSpPr>
            <p:cNvPr id="42" name=""/>
            <p:cNvSpPr/>
            <p:nvPr/>
          </p:nvSpPr>
          <p:spPr>
            <a:xfrm>
              <a:off x="6629400" y="24382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5800" y="4419720"/>
              <a:ext cx="7924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85800" y="2438280"/>
              <a:ext cx="7924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66880" y="457200"/>
              <a:ext cx="0" cy="5943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48320" y="457200"/>
              <a:ext cx="0" cy="5943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610480" y="24382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" y="24382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66880" y="640080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666880" y="45720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62320" y="6858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52880" y="6858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0880" y="2666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62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5288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5480" y="15228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95480" y="67057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362320" y="45684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362320" y="441936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80880" y="243792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8320" y="45720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8320" y="441972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2666880" y="15192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9720" y="1522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419720" y="640044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6880" y="640080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62320" y="220968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648320" y="220932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62320" y="617220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648320" y="617184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0880" y="419112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9:28:01Z</dcterms:created>
  <dc:creator>107632</dc:creator>
  <dc:description/>
  <dc:language>en-US</dc:language>
  <cp:lastModifiedBy>Dina Winterton</cp:lastModifiedBy>
  <dcterms:modified xsi:type="dcterms:W3CDTF">2010-03-24T18:33:04Z</dcterms:modified>
  <cp:revision>7</cp:revision>
  <dc:subject/>
  <dc:title>Slide 1</dc:title>
</cp:coreProperties>
</file>